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C14-0E44-43F2-BF31-C7E5A46B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DA8-0BE1-412E-B120-E5EFD43C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1E7-CAC0-4E3F-8AAD-1E2A8018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A02-935D-4144-9065-14253031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338B-ABFC-46A9-B866-6C59CE6B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581-92A4-40B7-9ECB-F4CBF0F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318C-FCE5-428D-BFEF-A0BE601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08D-526F-4697-879B-7AF09350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6EA0-FBCF-4D55-AC07-1B9BEF9E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253-ABB3-4817-8447-58520BE9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D75C-5AE3-4607-9B78-8CF68ABC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8EF-383C-4C79-8C14-D6FFE9C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796-0230-4B85-B4BD-EFCFB42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8937-DC45-41A5-99CD-E2A1CCDE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4CB6-9E05-4006-A7CF-AAAD750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7928-AB51-4AC3-A78F-B0868A43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94AF-00EE-46D3-B7A7-0B84B3AA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4D3F-F274-403B-8312-4795DD5C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7AA44-370E-45CF-91CA-3D0D7F56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020E-39AC-4D36-820C-A57F81B0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D5FA-CA07-4606-B69A-DFAFD28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26E9-F65C-4771-9BE5-6B150F8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B9A-92EF-481B-B2D6-EC2EC664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A729-9DC3-43E4-849B-BB89855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F360-E007-4B06-BE7D-7040DED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67D4-0481-4D8C-87EC-64DB9D4E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5B85-5E6D-46D1-85C8-A039B23F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22BC-7747-4136-A09D-B970B67C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F141-A4DE-4FD8-984D-C88C4DD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61FE-6583-46F7-8CE3-164A910B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5EB6-A012-4EE0-AC3D-5D388B8D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783D-6112-4761-BE35-8B69FD7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7FFD-6F4F-448F-9720-490BE29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9AB8-6704-44D2-9B20-E98D80A5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D8BD-4ECA-433F-B338-363EB96F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E8DB-08FF-4FD0-BB4A-A994D7B0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B8F6-1BC7-4532-A05B-D48D39E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FA0D-2CBF-4C8B-8C87-7CF2FD9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157D-93F3-4C89-B82C-7AB7B7E9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359A-B64B-43AA-BFBF-8D4CBE8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E60BA-C3BA-4D11-BDA6-7CD8EE3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3D25-BD9A-4C11-8270-1EBE0722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93A0-4989-467B-B5A8-FB8A8581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240-023A-426B-8C1C-F6930AB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658-50C8-4D87-BE7D-97754C3E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9FD-42B2-4C2D-9D68-4D9B0CF8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CB81-78E3-4B48-93B7-B064EF56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37B-E4CC-4AC4-9977-55C849A1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07C-432D-463E-80D8-F1024C32F30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Группа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14D1-7D7C-4F7C-87FE-B0D1162E1F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BED4-4554-40B4-A9D4-46A3A63C02A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F01D-E167-47E7-8F60-C628E2F5C6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Родительское собрание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Arial"/>
                <a:ea typeface="Arial"/>
              </a:rPr>
              <a:t> «Права ребенка  -  обязанности родителей»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4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15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думать обо всём так, как они хотят, они имеют право организовывать клубы по интересам и участвовать в собраниях и организация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179280" y="404640"/>
          <a:ext cx="435780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43578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714560" y="285480"/>
            <a:ext cx="4429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4643280" y="214200"/>
            <a:ext cx="421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4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5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36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на защиту от насилия, похищения или от любой другой формы эксплуа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2"/>
          <p:cNvGraphicFramePr/>
          <p:nvPr/>
        </p:nvGraphicFramePr>
        <p:xfrm>
          <a:off x="285840" y="714240"/>
          <a:ext cx="428616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428616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-360" y="620640"/>
            <a:ext cx="43578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4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ти имеют право получать медицинскую помощь и лечение таким способом, который наилучшим образом поможет им сохранить здоровье, а также получать информацию о способах лечения и об условиях, способных повлиять на их здоровь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4459320" y="214200"/>
          <a:ext cx="468468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214200"/>
                    <a:ext cx="4684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-360" y="260280"/>
            <a:ext cx="396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0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, принадлежащие к этническим, религиозным или языковым меньшинствам, имеют право пользоваться своей культурой, исповедовать свою религию и пользоваться родным язык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8" descr="E:\Documents and Settings\Admin\Мои документы\Мои рисунки\дети\clip_image002.gif"/>
          <p:cNvPicPr/>
          <p:nvPr/>
        </p:nvPicPr>
        <p:blipFill>
          <a:blip r:embed="rId1"/>
          <a:stretch/>
        </p:blipFill>
        <p:spPr>
          <a:xfrm>
            <a:off x="3786120" y="1143000"/>
            <a:ext cx="5143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0" y="213840"/>
            <a:ext cx="4572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8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9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получение образования, которое даёт возможность развития личности ребёнка.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http://www.zateevo.ru/userfiles/image/Upalnamoch_Prava/017.jpg"/>
          <p:cNvPicPr/>
          <p:nvPr/>
        </p:nvPicPr>
        <p:blipFill>
          <a:blip r:embed="rId1"/>
          <a:stretch/>
        </p:blipFill>
        <p:spPr>
          <a:xfrm>
            <a:off x="0" y="21420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-214560" y="0"/>
            <a:ext cx="485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27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на достаточно хороший уровень жизни, соответствующий установленным стандартам. Это означает, что дети должны иметь еду, одежду и жиль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http://www.zateevo.ru/userfiles/image/Upalnamoch_Prava/016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00720" y="428400"/>
            <a:ext cx="46432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31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се дети имеют право играть и отдыхать в таких условиях, которые способствуют  их творческому и культурному развитию, занятием искусством, музыкой, театральными постанов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http://www.zateevo.ru/userfiles/image/Upalnamoch_Prava/200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14880" y="213840"/>
            <a:ext cx="464328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,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ЯСЬ   СВОИМИ   ПРАВАМИ,   НАДО   УВАЖАТЬ ПРАВА ДРУГИХ ЛЮДЕЙ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http://blago.katren.ru/assets/images/99_1.jpg"/>
          <p:cNvPicPr/>
          <p:nvPr/>
        </p:nvPicPr>
        <p:blipFill>
          <a:blip r:embed="rId1"/>
          <a:stretch/>
        </p:blipFill>
        <p:spPr>
          <a:xfrm>
            <a:off x="214200" y="3286080"/>
            <a:ext cx="4929480" cy="3409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:\МАМА\Презентации\Сашина презентация\359504974.gif"/>
          <p:cNvPicPr/>
          <p:nvPr/>
        </p:nvPicPr>
        <p:blipFill>
          <a:blip r:embed="rId2"/>
          <a:stretch/>
        </p:blipFill>
        <p:spPr>
          <a:xfrm>
            <a:off x="357120" y="0"/>
            <a:ext cx="33577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523800" y="-85680"/>
            <a:ext cx="7785000" cy="933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13840" y="642960"/>
            <a:ext cx="8929800" cy="62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жиз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имя при рожден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медицинскую помощ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отдых и досу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иметь имуще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 свободно выражать свои взгля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свободное перемеще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заботу и воспитание родителя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всестороннее развитие и уважение человеческого достоинства( ни один ребенок не должен подвергаться жестокому обращению, насилию и оскорблениям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раво на личную жизнь, семейную жизнь, неприкосновенность жилища, тайну перепис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ледите ли вы за статьями в журналах, программами телевидения и радио по вопросам воспитания? Читаете ли время от времени книги на эту тем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аш ребенок совершил поступок. Задумываетесь ли вы в этом случае, не является ли его поведение результатом вашего воспитания?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23640" y="765000"/>
            <a:ext cx="83581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Цел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знакомить родителей с основными правами ребенка, провозглашенными в Конвенции о правах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Задачи:</a:t>
            </a:r>
            <a:r>
              <a:rPr b="1" lang="ru-RU" sz="3200" spc="-1" strike="noStrike">
                <a:solidFill>
                  <a:srgbClr val="e2d7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пополнить знания родителей о воспитании детей общедоступными сведениям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довести до родителей истину, что право и обязанность воспитания детей принадлежит им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казывать помощь в разумном выстраивании отношений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28760" y="714240"/>
            <a:ext cx="822960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3. Единодушны ли вы с вашим супругом в воспитании дете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. Если ребенок предлагает вам свою помощь, примете ли вы ее, даже если при этом дело может задержаться, а то и вовсе остановиться?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. Используете ли вы форму запрета или приказа только тогда, когда это действительно необходим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. Считаете ли вы, что последовательность есть один из основных педагогических принципов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. Сознаете ли вы, что среда, окружающая ребенка, оказывает на него существенное влияни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8. Признаете ли вы, что спорт и физкультура имеют большое значение для гармоничного развития ребенк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9. Сумеете ли вы не приказать своему ребенку, а попросить его о чем-либ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0. Неприятно ли вам отделываться от ребенка фразой типа: "У меня нет времени" или "Подожди, пока я закончу работу?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За каждый 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положительный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ответ запишите себе 2 очка,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за ответ "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иногда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" - 1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и за </a:t>
            </a:r>
            <a:r>
              <a:rPr b="0" lang="ru-RU" sz="3500" spc="-1" strike="noStrike">
                <a:solidFill>
                  <a:srgbClr val="ffff00"/>
                </a:solidFill>
                <a:latin typeface="Arial"/>
                <a:ea typeface="Arial"/>
              </a:rPr>
              <a:t>отрицательный</a:t>
            </a:r>
            <a:r>
              <a:rPr b="0" lang="ru-RU" sz="3500" spc="-1" strike="noStrike">
                <a:solidFill>
                  <a:srgbClr val="ffffff"/>
                </a:solidFill>
                <a:latin typeface="Arial"/>
                <a:ea typeface="Arial"/>
              </a:rPr>
              <a:t> - 0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Менее 6 очков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 настоящем воспитании вы имеете довольно смутное представление. И хотя говорят, что начать никогда не поздно, советуем вам не уповать на эту поговорку, а, не мешкая, заняться улучшением своих знаний в эт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От 7 до 14 оч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 не делаете крупных ошибок в воспитании, но все же вам есть, над чем задуматься. А начать можно с того, что ближайший выходной полностью посвятить детям, забыв на время приятелей и производственные проблемы. И будьте уверены, дети вас полностью за это вознаградят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bf5f9"/>
                </a:solidFill>
                <a:latin typeface="Arial"/>
                <a:ea typeface="Arial"/>
              </a:rPr>
              <a:t>Результаты</a:t>
            </a: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Более 15 оч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ы вполне справляетесь со своими родительскими обязанност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И тем не менее подумайте, можно ли  еще кое-что улучш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500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dbf5f9"/>
                </a:solidFill>
                <a:latin typeface="Calibri"/>
              </a:rPr>
              <a:t>                                           </a:t>
            </a:r>
            <a:r>
              <a:rPr b="0" i="1" lang="ru-RU" sz="4100" spc="-1" strike="noStrike">
                <a:solidFill>
                  <a:srgbClr val="ffff00"/>
                </a:solidFill>
                <a:latin typeface="Calibri"/>
              </a:rPr>
              <a:t>В.Г.Белинский</a:t>
            </a:r>
            <a:endParaRPr b="0" lang="en-US" sz="41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47628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«На родителях, только на родителях лежит священнейшая обязанность сделать своих детей человеками, обязанность же учебных заведений – сделать их учеными, гражданами, членами государства на всех ступенях. Но кто не сделался прежде всего человеком, тот плохой гражданин. Так давайте же вместе будем делать наших дет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ловек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…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6"/>
          <p:cNvSpPr/>
          <p:nvPr/>
        </p:nvSpPr>
        <p:spPr>
          <a:xfrm>
            <a:off x="236232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1042920" y="1484280"/>
            <a:ext cx="727416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Берегит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дет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ндрей Дементьев: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391840"/>
            <a:ext cx="82296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rial"/>
                <a:ea typeface="Arial"/>
              </a:rPr>
              <a:t>«Сначала выполнять обязанности надо, а уж после предъявлять права».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96314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9034560" cy="2846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9920" y="3285720"/>
            <a:ext cx="8256600" cy="3000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т. 64 Семейного кодекса Р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ава и обязанности родителей по защите прав  и интересов дет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т. 38 Конституции РФ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00"/>
                </a:solidFill>
                <a:latin typeface="Arial"/>
                <a:ea typeface="Arial"/>
              </a:rPr>
              <a:t>Забота о детях, их воспитание – равно право и обязанность родителей.</a:t>
            </a:r>
            <a:r>
              <a:rPr b="1" lang="ru-RU" sz="3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Constantia"/>
              </a:rPr>
              <a:t>Родители являются законными представителями своих детей и выступают в защиту их прав и интересов в отношениях с любыми лицами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920" y="83628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ю о правах ребенка – это важный документ, регулирующий защиту прав детей во всем мире. Конвенция – это не список прав ребенка, а перечень тех обязательств, который государства возложили на себя для защиты данных пра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нвенция ООН о правах ребенка – это документ о правах ребенка, состоящий из 54 статей, каждая из которых описывает определенное право. Конвенция признает ребенком лицо, не достигшее 18 лет, если по законам страны возраст совершеннолетия не наступает раньше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огда страна подписывает эту Конвенцию, она принимает на себя обязанность предоставления этих прав всем детям без исклю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213920"/>
            <a:ext cx="374976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Статья 7 и статья 8.</a:t>
            </a:r>
            <a:br>
              <a:rPr sz="2900"/>
            </a:br>
            <a:r>
              <a:rPr b="1" i="1" lang="ru-RU" sz="2900" spc="-1" strike="noStrike">
                <a:solidFill>
                  <a:srgbClr val="dbf5f9"/>
                </a:solidFill>
                <a:latin typeface="Arial"/>
                <a:ea typeface="Arial"/>
              </a:rPr>
              <a:t> Все дети имеют право на имя и на приобретение гражданства, а также они имеют право на сохранение своего имени и гражданства.</a:t>
            </a:r>
            <a:br>
              <a:rPr sz="4100"/>
            </a:br>
            <a:endParaRPr b="0" lang="en-US" sz="29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97" name="Picture 5" descr="http://www.zateevo.ru/userfiles/image/Upalnamoch_Prava/007.jpg"/>
          <p:cNvPicPr/>
          <p:nvPr/>
        </p:nvPicPr>
        <p:blipFill>
          <a:blip r:embed="rId1"/>
          <a:stretch/>
        </p:blipFill>
        <p:spPr>
          <a:xfrm>
            <a:off x="3857760" y="357120"/>
            <a:ext cx="5072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http://www.zateevo.ru/userfiles/image/Upalnamoch_Prava/008.jpg"/>
          <p:cNvPicPr/>
          <p:nvPr/>
        </p:nvPicPr>
        <p:blipFill>
          <a:blip r:embed="rId1"/>
          <a:stretch/>
        </p:blipFill>
        <p:spPr>
          <a:xfrm>
            <a:off x="414324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4"/>
          <p:cNvSpPr/>
          <p:nvPr/>
        </p:nvSpPr>
        <p:spPr>
          <a:xfrm>
            <a:off x="179280" y="549360"/>
            <a:ext cx="41436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татья 9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е дети имеют право жить со своими родителями, за исключением случаев, когда это невозмо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43:06Z</dcterms:created>
  <dc:creator>Пользователь</dc:creator>
  <dc:description/>
  <dc:language>en-US</dc:language>
  <cp:lastModifiedBy>UserXP</cp:lastModifiedBy>
  <dcterms:modified xsi:type="dcterms:W3CDTF">2010-12-09T21:25:23Z</dcterms:modified>
  <cp:revision>33</cp:revision>
  <dc:subject/>
  <dc:title>Переменные: тип, имя, значение</dc:title>
</cp:coreProperties>
</file>